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41D8-8000-44EE-8BDF-D29AEBB6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9C3-B0CD-489C-AE45-95EABCE1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042D-A303-450C-AD04-CE9B7AB2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D98-BD5A-4E5E-9EE7-6B33773B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88EC-0677-4354-B533-540D3544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D80F-985D-428F-91B1-416FB591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56B5-1A6F-4CD5-95BF-DCF02EBF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85D2-D423-4246-8B26-8F8373C6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8B96-DD17-49EC-B61F-CA09DB92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C22C-989B-4F21-85F1-CC51212F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3361-0D95-46CA-A2F7-F63ED829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67C-C409-4563-8FBD-9E708393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1384-A96E-45C3-81AD-079F575A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2F4A-3218-4B37-964E-5940534C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07AB-89CE-4041-A891-5950E7F7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4747-2F98-45A9-BE9B-968A247B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E164-5DFD-4FD7-9BDA-CC70E6A7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319-2F35-46E8-A55C-09795B91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D69-3824-45C5-8AE9-92F6E8F6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8734-52D7-4260-8EB0-B5977AA5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37B1-DF94-45B3-B598-28161515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1A1-CA49-4952-AB67-3140032A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D3B-F41E-4BD1-93E5-99DC9E27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54C-D775-4279-8C0A-F0187F91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4C02-8F91-4F61-BEC1-CF1665489266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8159-067F-41BD-97A7-8364215E8509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920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124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9040" y="2104920"/>
            <a:ext cx="34632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Skeletal Sys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me terms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aphys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shaft of a bone that surrounds a central marrow cavity containing bone m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piphys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portion at the end of the diaphysis covered by articular carti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me terms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act Bo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solid, forms the diaph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pongy bo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f bony rods separated by spaces, fills the epiph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me terms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riost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s the bone from surround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mingles with tendons and liga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 route for circulation and 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dost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s the marrow cavity and other internal su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during bone growth and re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actice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ad pages 2 &amp; 3 of Activity #1 VERY carefull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or the picture on page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istology of b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icroscopic features in bo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ct and spongy bone both contain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steocy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bone cells) in small pockets called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acuna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unae are found between narrow sheets of calcified matrix called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amella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analicul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adiate through the matrix connecting the lacunae to blood vessel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mpact Bo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asic functional unit is called t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ste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aversian syste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in the osteon, osteocytes are arranged in concentric circles around a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entral can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aversian can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at contains 1 or more blood vesse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erforating cana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ink the blood vessels of the central canal to the periosteum or the marrow cav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11160"/>
            <a:ext cx="85341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791320" y="7621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Haversian Cana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3124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Lacuna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5257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Canalicul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skeleton supports the weight of the bo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strong as reinforced concrete, but considerably li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remolded to fit the changing metabolic needs of the body, unlike con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keletal system includes bones, cartilage, joints, ligaments and other connective tissu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pongy Bo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Oste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lamellae form rods called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trabecula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that are heavily branche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s connects to the marrow to allow diffusion of nutrients and was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ere is compact and spongy bone foun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act bone forms the surface of bone everywhere except in joint capsules, where articular cartilage protects the ends of the b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pongy bone is found within the epiphys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does that mea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ct bone is found where stress comes from a limited range of dir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in limb bones, the osteons are parallel to the long axis to prevent the bone from bending when large stresses are applied to either e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mall force on the SIDE of the shaft can break the bone easily thoug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does that mea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pongy bone is found where forces come from a variety of directions or areas that are not heavily stres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s makes bones lighter and easier to mov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so, the trabeculae of the spongy bone helps to protect the red marrow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ells in Bo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steocy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ure bon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normal bone structure by recycling Ca salts and assisting in re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steocla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ant cells with 50+ nuc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 matrix to release nutrients with acids and enzymes to regulate concentrations within body flu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ells in bo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steobla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responsible for production of new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bone growth by producing new matrix and deposition of Ca sa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ny given moment osteoclasts are working against osteobl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osteoblast is completely surrounded by calcified matrix it differentiates into an osteoc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one Formation and Growt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uring development all of the bones are made of cartilage and connective tissu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ssification (w/ calcification) is the replacement of other tissues with bo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2 types of Ossific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ramembrano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e develops deep within sheets of membrane or connectiv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dochondr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e replaces existing carti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tramembranous Ossific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at an ossification ce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teoblasts differentiate from connective tissue after calcification of the matrix occu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bone branches outward and when the osteoblasts get surrounded, they change into osteocy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at bones of the skull, mandible and clavicles form this 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5 Primary Functions of the Skeletal Syst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framework for the attachment of soft tissues and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um salts that help maintain normal concentrations of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ody fl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id reserves within yellow m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ndochondral Ossific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SURE TO LOOK AT PAGE 140 IN YOUR READING FOR THE PROCESS OF Endochondral Ossific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quirements for Bone Growt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tamin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normal Ca metabo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obtained in diet or in epidermal tissue via UV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neys convert it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ci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hormone that stimulates the absorption of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digestive 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can ca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cke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nes are very flexible due to lack of calcium salts; individuals can be bowleg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quirements for Bone Growt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tamin A and 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k of Vitamin C can caus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curv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or collagen development, liver spots, bleeding from mucous membran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 sure to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pages 142-3 about Bone remodeling and homeostasi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5 Primary Functions of the Skeletal Syst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lood Cell Produ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BC, WBC and other blood elements are made within red marrow, which fills the internal areas of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unds soft organs: Ribs around heart and lungs, pelvis cradles digestive and reproductive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5 Primary Functions of the Skeletal Syst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es work as levers to change the magnitude and direction of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ructure of Bo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sseous tissu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connectiv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osition of Calcium sa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 is C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ther 1/3 is col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of the tissue is osteoc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4 general shapes of bo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Long Bon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er than wide; ex. Femur and Hum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hort Bon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ly equal proportions; ex. Carpals and Ta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4 general shapes of bo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lat B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 and broad; ex. Parietal bones, ribs, scapul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rregular B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it into any other category; ex. vertebr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14600" y="228600"/>
            <a:ext cx="3886200" cy="64008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5866920" y="2895480"/>
            <a:ext cx="1600560" cy="381240"/>
            <a:chOff x="5866920" y="2895480"/>
            <a:chExt cx="1600560" cy="381240"/>
          </a:xfrm>
        </p:grpSpPr>
        <p:sp>
          <p:nvSpPr>
            <p:cNvPr id="108" name=""/>
            <p:cNvSpPr/>
            <p:nvPr/>
          </p:nvSpPr>
          <p:spPr>
            <a:xfrm>
              <a:off x="6172200" y="2895480"/>
              <a:ext cx="1295280" cy="368280"/>
            </a:xfrm>
            <a:prstGeom prst="rect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66"/>
                  </a:solidFill>
                  <a:latin typeface="Arial"/>
                </a:rPr>
                <a:t>Diaphysis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5866920" y="3276720"/>
              <a:ext cx="12956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866920" y="609480"/>
            <a:ext cx="1600560" cy="381240"/>
            <a:chOff x="5866920" y="609480"/>
            <a:chExt cx="1600560" cy="381240"/>
          </a:xfrm>
        </p:grpSpPr>
        <p:sp>
          <p:nvSpPr>
            <p:cNvPr id="111" name=""/>
            <p:cNvSpPr/>
            <p:nvPr/>
          </p:nvSpPr>
          <p:spPr>
            <a:xfrm>
              <a:off x="6172200" y="609480"/>
              <a:ext cx="1295280" cy="368280"/>
            </a:xfrm>
            <a:prstGeom prst="rect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66"/>
                  </a:solidFill>
                  <a:latin typeface="Arial"/>
                </a:rPr>
                <a:t>Epiphysis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5866920" y="990720"/>
              <a:ext cx="12956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714640" y="5791320"/>
            <a:ext cx="1600560" cy="380880"/>
            <a:chOff x="5714640" y="5791320"/>
            <a:chExt cx="1600560" cy="380880"/>
          </a:xfrm>
        </p:grpSpPr>
        <p:sp>
          <p:nvSpPr>
            <p:cNvPr id="114" name=""/>
            <p:cNvSpPr/>
            <p:nvPr/>
          </p:nvSpPr>
          <p:spPr>
            <a:xfrm>
              <a:off x="6019920" y="5791320"/>
              <a:ext cx="1295280" cy="368280"/>
            </a:xfrm>
            <a:prstGeom prst="rect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66"/>
                  </a:solidFill>
                  <a:latin typeface="Arial"/>
                </a:rPr>
                <a:t>Epiphysis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714640" y="6172200"/>
              <a:ext cx="12956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952520" y="1600200"/>
            <a:ext cx="2514960" cy="642600"/>
            <a:chOff x="4952520" y="1600200"/>
            <a:chExt cx="2514960" cy="642600"/>
          </a:xfrm>
        </p:grpSpPr>
        <p:sp>
          <p:nvSpPr>
            <p:cNvPr id="117" name=""/>
            <p:cNvSpPr/>
            <p:nvPr/>
          </p:nvSpPr>
          <p:spPr>
            <a:xfrm>
              <a:off x="6172200" y="1600200"/>
              <a:ext cx="12952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66"/>
                  </a:solidFill>
                  <a:latin typeface="Arial"/>
                </a:rPr>
                <a:t>Compact Bon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952520" y="1905120"/>
              <a:ext cx="17528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219320" y="1066680"/>
            <a:ext cx="2895120" cy="1099800"/>
            <a:chOff x="1219320" y="1066680"/>
            <a:chExt cx="2895120" cy="1099800"/>
          </a:xfrm>
        </p:grpSpPr>
        <p:sp>
          <p:nvSpPr>
            <p:cNvPr id="120" name=""/>
            <p:cNvSpPr/>
            <p:nvPr/>
          </p:nvSpPr>
          <p:spPr>
            <a:xfrm>
              <a:off x="1219320" y="1523880"/>
              <a:ext cx="1295280" cy="642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66"/>
                  </a:solidFill>
                  <a:latin typeface="Arial"/>
                </a:rPr>
                <a:t>Spongy Bon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057040" y="1066680"/>
              <a:ext cx="2057400" cy="5335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029200" y="3505320"/>
            <a:ext cx="2666880" cy="368280"/>
            <a:chOff x="5029200" y="3505320"/>
            <a:chExt cx="2666880" cy="368280"/>
          </a:xfrm>
        </p:grpSpPr>
        <p:sp>
          <p:nvSpPr>
            <p:cNvPr id="123" name=""/>
            <p:cNvSpPr/>
            <p:nvPr/>
          </p:nvSpPr>
          <p:spPr>
            <a:xfrm>
              <a:off x="6248520" y="3505320"/>
              <a:ext cx="1447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66"/>
                  </a:solidFill>
                  <a:latin typeface="Arial"/>
                </a:rPr>
                <a:t>Periosteum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029200" y="3809880"/>
              <a:ext cx="1752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02:20:18Z</dcterms:created>
  <dc:creator>Rich South</dc:creator>
  <dc:description/>
  <dc:language>en-US</dc:language>
  <cp:lastModifiedBy>Rich South</cp:lastModifiedBy>
  <dcterms:modified xsi:type="dcterms:W3CDTF">2007-02-21T19:58:45Z</dcterms:modified>
  <cp:revision>11</cp:revision>
  <dc:subject/>
  <dc:title>The Skeletal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